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8BE-77FA-4A11-A41D-E985BBD9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834-277C-4531-B5C7-DE7BC3EE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4D7-501D-458C-9C34-A29FB04E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622-B0F5-488C-BB19-88580D6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49D-6CFF-4307-98D2-941EA86A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895-2DDE-4C80-91E8-B6180B7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BE7-CDC7-4548-B35A-88AB611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9F7-163B-40EB-B884-77C8DEC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128-D392-4D64-A038-51334A0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432-AE1C-47EC-8197-34799D5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B55-4E3B-4AED-AC30-C3759701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FD5-D971-4C1E-ABB8-38FFF93A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18252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840" y="6438960"/>
            <a:ext cx="952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8920" y="624852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7520" y="6340320"/>
            <a:ext cx="2146320" cy="441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8200" y="6381720"/>
            <a:ext cx="1047960" cy="1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IfM logo"/>
          <p:cNvPicPr/>
          <p:nvPr/>
        </p:nvPicPr>
        <p:blipFill>
          <a:blip r:embed="rId3"/>
          <a:stretch/>
        </p:blipFill>
        <p:spPr>
          <a:xfrm>
            <a:off x="493560" y="6316560"/>
            <a:ext cx="723960" cy="352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0E2F-F75D-4B92-94D1-0E7129B40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1800" y="603360"/>
            <a:ext cx="90406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 Narrow"/>
              </a:rPr>
              <a:t>Business appraisal of technology potent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assessing and communicating the 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Symposiu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Wednesday 28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 Sept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Clare Farrukh, Marcel Dissel and Francis H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Institute for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EPSRC IMRC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September 2004-August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3600" y="573120"/>
            <a:ext cx="67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al Options for early-stage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8080" y="1781280"/>
            <a:ext cx="969804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scribe range of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by including managerial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options 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dapting mathematical models from f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tree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quantifying value of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29560" y="1095480"/>
            <a:ext cx="2860200" cy="1620360"/>
            <a:chOff x="6829560" y="1095480"/>
            <a:chExt cx="2860200" cy="1620360"/>
          </a:xfrm>
        </p:grpSpPr>
        <p:sp>
          <p:nvSpPr>
            <p:cNvPr id="138" name=""/>
            <p:cNvSpPr/>
            <p:nvPr/>
          </p:nvSpPr>
          <p:spPr>
            <a:xfrm>
              <a:off x="9010800" y="109548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2452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9560" y="156600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61400" y="167040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892280" y="1262520"/>
              <a:ext cx="268920" cy="31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47680" y="1199880"/>
              <a:ext cx="67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92280" y="1759680"/>
              <a:ext cx="248040" cy="29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83600" y="1844640"/>
              <a:ext cx="260640" cy="24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42640" y="1199880"/>
              <a:ext cx="44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39360" y="1774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31080" y="2611800"/>
              <a:ext cx="3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5840" y="109548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07160" y="1670400"/>
              <a:ext cx="223560" cy="2091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5840" y="2036520"/>
              <a:ext cx="22320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07160" y="2507040"/>
              <a:ext cx="223560" cy="20880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800" y="2223720"/>
              <a:ext cx="24804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9720" y="4146480"/>
            <a:ext cx="9290160" cy="172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s thinking has potential for early stage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 models can often seen as a black box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ing in lack of accep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0" y="129384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32120" y="107172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47280" y="10717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31720" y="107172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5360" y="996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5400" y="419580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6000" y="3402000"/>
            <a:ext cx="285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22520" y="3535200"/>
            <a:ext cx="78264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5160" y="353520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432756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2240" y="531972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3535200"/>
            <a:ext cx="440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471840" y="247608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89120" y="3216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498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7560" y="21398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1840" y="353520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25400" y="459252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25400" y="247644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9760" y="3203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9760" y="4208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25304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0560" y="313524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38560" y="399240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17760" y="3468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240" y="207972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9240" y="3138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9240" y="41940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920" y="5340240"/>
            <a:ext cx="81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 + 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60m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5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56720" y="20908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15756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6360" y="4213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920" y="398520"/>
            <a:ext cx="1473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800" y="1119240"/>
            <a:ext cx="2496960" cy="1716120"/>
          </a:xfrm>
          <a:custGeom>
            <a:avLst/>
            <a:gdLst/>
            <a:ahLst/>
            <a:rect l="l" t="t" r="r" b="b"/>
            <a:pathLst>
              <a:path w="1497" h="1178">
                <a:moveTo>
                  <a:pt x="137" y="0"/>
                </a:moveTo>
                <a:cubicBezTo>
                  <a:pt x="68" y="408"/>
                  <a:pt x="0" y="816"/>
                  <a:pt x="227" y="997"/>
                </a:cubicBezTo>
                <a:cubicBezTo>
                  <a:pt x="454" y="1178"/>
                  <a:pt x="1285" y="1073"/>
                  <a:pt x="1497" y="10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3284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5400" y="129384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4280" y="12938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65720" y="12193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5400" y="4417920"/>
            <a:ext cx="35712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461628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8400" y="3559320"/>
            <a:ext cx="355680" cy="33012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8400" y="2500200"/>
            <a:ext cx="355680" cy="33048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86000" y="3624120"/>
            <a:ext cx="285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45320" y="2235240"/>
            <a:ext cx="2840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22520" y="3757320"/>
            <a:ext cx="78264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05160" y="37576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549680"/>
            <a:ext cx="5698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62240" y="554184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1840" y="37576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71840" y="2698560"/>
            <a:ext cx="8539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9920" y="236844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49920" y="5013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64080" y="4748040"/>
            <a:ext cx="2858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464080" y="2368440"/>
            <a:ext cx="28584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10000" y="3438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55560" y="20131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37000" y="521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2680" y="46702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6720" y="23623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1840" y="3757680"/>
            <a:ext cx="85392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25760" y="48150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325760" y="26989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4880" y="3425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93440" y="44308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25600" y="230184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95600" y="23130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39080" y="234936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5638680"/>
            <a:ext cx="9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+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 60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$2.2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98772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59400" y="3722760"/>
            <a:ext cx="2840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46200" y="3645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37200" y="28465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5480" y="335772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59440" y="4214880"/>
            <a:ext cx="49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5760" y="6413400"/>
            <a:ext cx="553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options thinking to R&amp;D evaluation” (Faulkner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: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transition to the real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15760" y="1496520"/>
            <a:ext cx="84502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that 0.3 probability come fro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ecords, expert opin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be accepted by accountants BUT is more accurat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y to use, generates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ill doesn’t look very realis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 Carlo si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DCF if you can credibly identify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and their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s thinking on how to improv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conjunction with established financial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s the benefits of “options thin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520" y="606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ecision trees and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Monte Carlo simu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9680" y="2085840"/>
            <a:ext cx="8450280" cy="40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of a software tool to help support “options thin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81080" y="304920"/>
            <a:ext cx="596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echnology roadmapping and ‘value roadmap’ conc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1280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oadmap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align techn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 development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rk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approach is flexible, and both the architecture and process can be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customised to suit a wide range of strategic contex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‘value roadmap’ concept was developed in 2003 in collabo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with BAE SYSTEMS to suppor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plor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value potential of early stage technology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10560" y="1366920"/>
            <a:ext cx="4717440" cy="2286000"/>
            <a:chOff x="4210560" y="1366920"/>
            <a:chExt cx="4717440" cy="2286000"/>
          </a:xfrm>
        </p:grpSpPr>
        <p:sp>
          <p:nvSpPr>
            <p:cNvPr id="254" name=""/>
            <p:cNvSpPr/>
            <p:nvPr/>
          </p:nvSpPr>
          <p:spPr>
            <a:xfrm>
              <a:off x="5422680" y="1595520"/>
              <a:ext cx="3505320" cy="685800"/>
            </a:xfrm>
            <a:prstGeom prst="rect">
              <a:avLst/>
            </a:prstGeom>
            <a:solidFill>
              <a:srgbClr val="dd9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22680" y="2281320"/>
              <a:ext cx="3505320" cy="685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2680" y="2967120"/>
              <a:ext cx="3505320" cy="685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75320" y="3348000"/>
              <a:ext cx="11430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70600" y="3348000"/>
              <a:ext cx="144792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61120" y="3043440"/>
              <a:ext cx="9144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6400" y="3043440"/>
              <a:ext cx="6858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8480" y="2662200"/>
              <a:ext cx="106704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7800" y="2662200"/>
              <a:ext cx="1371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3400" y="235764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75520" y="2357640"/>
              <a:ext cx="1143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7080" y="205272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5520" y="2052720"/>
              <a:ext cx="15238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6400" y="1747800"/>
              <a:ext cx="60948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51280" y="235764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8520" y="1366920"/>
              <a:ext cx="609480" cy="457200"/>
            </a:xfrm>
            <a:prstGeom prst="rightArrow">
              <a:avLst>
                <a:gd name="adj1" fmla="val 68750"/>
                <a:gd name="adj2" fmla="val 3332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25280" y="1768680"/>
              <a:ext cx="7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28080" y="2449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0560" y="314172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8320" y="3424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5520" y="3119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5520" y="273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22880" y="2433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61120" y="243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46920" y="2129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56568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632720" y="3195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08680" y="281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879880" y="2509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470800" y="220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42000" y="2205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38080"/>
            <a:ext cx="9448920" cy="121932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057400"/>
            <a:ext cx="9448920" cy="2286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4343400"/>
            <a:ext cx="9448920" cy="129528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5638680"/>
            <a:ext cx="9448920" cy="1143000"/>
          </a:xfrm>
          <a:prstGeom prst="rect">
            <a:avLst/>
          </a:prstGeom>
          <a:solidFill>
            <a:srgbClr val="fffc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2920" y="11430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-190080" y="3002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2200" y="43434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2200" y="49975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480" y="575928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earch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" y="2089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240" y="2655720"/>
            <a:ext cx="12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sinesse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7600" y="324324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9040" y="36259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9040" y="39862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502920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9625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5812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320040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7097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838080"/>
            <a:ext cx="0" cy="594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708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2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15400" y="762120"/>
            <a:ext cx="0" cy="60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3960" y="533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94400" y="53352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ort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43560" y="5335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dium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27480" y="5335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ng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99920" y="5335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914400"/>
            <a:ext cx="7086600" cy="106668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9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ex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ocial, technological, economic, environmental &amp; political trends &amp;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ustomer &amp; competitor 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usiness strategy, objectives &amp;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133720"/>
            <a:ext cx="7086600" cy="213336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tential ‘valu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ther ad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5791320"/>
            <a:ext cx="7086600" cy="91440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ilestones, investment,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2209680"/>
            <a:ext cx="3278160" cy="20574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richer the pi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more likely it i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lue will be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495680"/>
            <a:ext cx="7086600" cy="99072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0" y="0"/>
                </a:lnTo>
                <a:lnTo>
                  <a:pt x="21600" y="10800"/>
                </a:lnTo>
                <a:lnTo>
                  <a:pt x="202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ablers &amp;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mplementary technologies, systems /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, barriers and potential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-190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Value roadmap’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historical value roadmap: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ilicon gyro @ BA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50960" y="1700280"/>
            <a:ext cx="660420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44280" y="668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2080" y="1873080"/>
            <a:ext cx="846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iscuss the contribution of both quantitative and qualitative methods in valuing early stage technology and the importance of effective visualisation and communication of options to a range of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ctions: name, company and what would you like to take away from the worksh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08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11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22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213000" y="4530600"/>
                <a:ext cx="184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Long gestation - lots of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tience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456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459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470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04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07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16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17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26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28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560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563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2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573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581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582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4221000"/>
            <a:ext cx="990612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13000" y="4530600"/>
            <a:ext cx="2452320" cy="1538640"/>
            <a:chOff x="3213000" y="4530600"/>
            <a:chExt cx="2452320" cy="1538640"/>
          </a:xfrm>
        </p:grpSpPr>
        <p:sp>
          <p:nvSpPr>
            <p:cNvPr id="593" name=""/>
            <p:cNvSpPr/>
            <p:nvPr/>
          </p:nvSpPr>
          <p:spPr>
            <a:xfrm>
              <a:off x="4762800" y="5610240"/>
              <a:ext cx="90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Proof of princi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TRL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213000" y="4530600"/>
              <a:ext cx="1841400" cy="1486800"/>
              <a:chOff x="3213000" y="4530600"/>
              <a:chExt cx="1841400" cy="1486800"/>
            </a:xfrm>
          </p:grpSpPr>
          <p:sp>
            <p:nvSpPr>
              <p:cNvPr id="595" name=""/>
              <p:cNvSpPr/>
              <p:nvPr/>
            </p:nvSpPr>
            <p:spPr>
              <a:xfrm flipV="1">
                <a:off x="3832200" y="5848200"/>
                <a:ext cx="948960" cy="1296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897360" y="5680080"/>
                <a:ext cx="8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Approx. £xM R&amp;T program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13000" y="4530600"/>
                <a:ext cx="184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Long gestation - lots of patience &amp; support from customer who could see potenti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72480" y="4838760"/>
                <a:ext cx="0" cy="85068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5248440" y="-19080"/>
            <a:ext cx="80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6720" y="-19080"/>
            <a:ext cx="8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 Narrow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11560" y="189000"/>
            <a:ext cx="19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Internal need and need for IMU’s in other sec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F1 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Stabilised binocul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808080"/>
                </a:solidFill>
                <a:latin typeface="Arial Narrow"/>
              </a:rPr>
              <a:t>Model helic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-14400" y="4815000"/>
            <a:ext cx="990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20" y="173160"/>
            <a:ext cx="10530000" cy="6634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387080" y="149400"/>
            <a:ext cx="9720" cy="6669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20" y="1312920"/>
            <a:ext cx="10530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760" y="419112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760" y="4927680"/>
            <a:ext cx="10526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86840" y="1309680"/>
            <a:ext cx="1800" cy="551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240" y="241200"/>
            <a:ext cx="9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Market &amp;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rends &amp; Driv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Technolog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Environ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Polit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ustom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eti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BA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-285120" y="2594520"/>
            <a:ext cx="76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Value Stre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-475560" y="5784480"/>
            <a:ext cx="11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Narrow"/>
              </a:rPr>
              <a:t>Technology Capa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7200" y="2664000"/>
            <a:ext cx="10363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440" y="2978280"/>
            <a:ext cx="1036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5760" y="3417840"/>
            <a:ext cx="10364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3680" y="367992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3680" y="5448240"/>
            <a:ext cx="10356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1760" y="1724040"/>
            <a:ext cx="109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Products &amp; Sub-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720" y="23320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7800" y="273672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Business / Fac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160" y="31161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/ 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9240" y="344484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st / Risk Re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2040" y="384804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Strategic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0320" y="4254480"/>
            <a:ext cx="90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Non-techn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imentary actions /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3560" y="49309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Technology 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Enablers / Barr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omplementary techn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Risk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2760" y="5923080"/>
            <a:ext cx="8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R &amp; T Program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Milest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Invest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600" spc="-1" strike="noStrike">
                <a:solidFill>
                  <a:srgbClr val="808080"/>
                </a:solidFill>
                <a:latin typeface="Arial Narrow"/>
              </a:rPr>
              <a:t>Capabilities (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2400" y="4898880"/>
            <a:ext cx="3704040" cy="1870200"/>
            <a:chOff x="1292400" y="4898880"/>
            <a:chExt cx="3704040" cy="1870200"/>
          </a:xfrm>
        </p:grpSpPr>
        <p:sp>
          <p:nvSpPr>
            <p:cNvPr id="627" name=""/>
            <p:cNvSpPr/>
            <p:nvPr/>
          </p:nvSpPr>
          <p:spPr>
            <a:xfrm>
              <a:off x="3195360" y="5353200"/>
              <a:ext cx="173880" cy="253800"/>
            </a:xfrm>
            <a:custGeom>
              <a:avLst/>
              <a:gdLst/>
              <a:ahLst/>
              <a:rect l="l" t="t" r="r" b="b"/>
              <a:pathLst>
                <a:path w="160" h="420">
                  <a:moveTo>
                    <a:pt x="0" y="4"/>
                  </a:moveTo>
                  <a:cubicBezTo>
                    <a:pt x="53" y="2"/>
                    <a:pt x="106" y="1"/>
                    <a:pt x="160" y="0"/>
                  </a:cubicBezTo>
                  <a:lnTo>
                    <a:pt x="160" y="42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82760" y="6299280"/>
              <a:ext cx="89280" cy="438120"/>
            </a:xfrm>
            <a:custGeom>
              <a:avLst/>
              <a:gdLst>
                <a:gd name="textAreaLeft" fmla="*/ 0 w 89280"/>
                <a:gd name="textAreaRight" fmla="*/ 32040 w 89280"/>
                <a:gd name="textAreaTop" fmla="*/ 11160 h 438120"/>
                <a:gd name="textAreaBottom" fmla="*/ 42696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292400" y="4898880"/>
              <a:ext cx="3704040" cy="1870200"/>
              <a:chOff x="1292400" y="4898880"/>
              <a:chExt cx="3704040" cy="1870200"/>
            </a:xfrm>
          </p:grpSpPr>
          <p:sp>
            <p:nvSpPr>
              <p:cNvPr id="630" name=""/>
              <p:cNvSpPr/>
              <p:nvPr/>
            </p:nvSpPr>
            <p:spPr>
              <a:xfrm>
                <a:off x="4094280" y="6237360"/>
                <a:ext cx="902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IMU’s contain 3 gyros &amp; 3 accelero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292400" y="4898880"/>
                <a:ext cx="2878560" cy="1870200"/>
                <a:chOff x="1292400" y="4898880"/>
                <a:chExt cx="2878560" cy="187020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249640" y="4898880"/>
                  <a:ext cx="1087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808080"/>
                      </a:solidFill>
                      <a:latin typeface="Arial Narrow"/>
                    </a:rPr>
                    <a:t>BAE SYSTEMS capabilities in MicroElectroMechanical Systems (MEM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1292400" y="5610240"/>
                  <a:ext cx="2878560" cy="1158840"/>
                  <a:chOff x="1292400" y="5610240"/>
                  <a:chExt cx="2878560" cy="11588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1292400" y="5743440"/>
                    <a:ext cx="812880" cy="70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. 19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Physical principles of vibrating ring gyro establishe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009160" y="5737320"/>
                    <a:ext cx="6490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70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Ceramic ring gyr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708200" y="5848200"/>
                    <a:ext cx="36072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prstDash val="dash"/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435040" y="5835600"/>
                    <a:ext cx="500040" cy="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921400" y="5610240"/>
                    <a:ext cx="1249560" cy="115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199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8080"/>
                        </a:solidFill>
                        <a:latin typeface="Arial Narrow"/>
                      </a:rPr>
                      <a:t>R&amp;T programme</a:t>
                    </a:r>
                    <a:r>
                      <a:rPr b="1" lang="en-US" sz="1600" spc="-1" strike="noStrike">
                        <a:solidFill>
                          <a:srgbClr val="808080"/>
                        </a:solidFill>
                        <a:latin typeface="Arial Narrow"/>
                      </a:rPr>
                      <a:t> </a:t>
                    </a:r>
                    <a:r>
                      <a:rPr b="0" lang="en-US" sz="800" spc="-1" strike="noStrike">
                        <a:solidFill>
                          <a:srgbClr val="808080"/>
                        </a:solidFill>
                        <a:latin typeface="Arial Narrow"/>
                      </a:rPr>
                      <a:t>to develop silicon gyro starts, for low cost rugged Inertial Measurement Unit (IMU) for missile applic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39" name=""/>
          <p:cNvGrpSpPr/>
          <p:nvPr/>
        </p:nvGrpSpPr>
        <p:grpSpPr>
          <a:xfrm>
            <a:off x="2208240" y="1268280"/>
            <a:ext cx="6487560" cy="4509720"/>
            <a:chOff x="2208240" y="1268280"/>
            <a:chExt cx="6487560" cy="4509720"/>
          </a:xfrm>
        </p:grpSpPr>
        <p:sp>
          <p:nvSpPr>
            <p:cNvPr id="640" name=""/>
            <p:cNvSpPr/>
            <p:nvPr/>
          </p:nvSpPr>
          <p:spPr>
            <a:xfrm>
              <a:off x="2208240" y="4175280"/>
              <a:ext cx="203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Sumitomo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- long term supplier of accelero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25240" y="4280040"/>
              <a:ext cx="101592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91840" y="4175280"/>
              <a:ext cx="3225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 Narrow"/>
                </a:rPr>
                <a:t>Joint Venture with Sumitomo</a:t>
              </a:r>
              <a:r>
                <a:rPr b="0" lang="en-GB" sz="800" spc="-1" strike="noStrike">
                  <a:solidFill>
                    <a:srgbClr val="808080"/>
                  </a:solidFill>
                  <a:latin typeface="Arial Narrow"/>
                </a:rPr>
                <a:t>, to leverage their high volume low cost manufacturing capabilities (and £xM capital plant)… automotive ‘route to market’ identified, as a means to reduce cost of gy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20440" y="4803480"/>
              <a:ext cx="0" cy="97452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08960" y="4635360"/>
              <a:ext cx="2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Political constraints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 in Japan mean that ‘specials’ for military application must be manufacturing in U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8080" y="1268280"/>
              <a:ext cx="801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Automotive 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application (2nd generation ABS) - high volume, low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5440320" y="2590560"/>
              <a:ext cx="10440" cy="1638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34080" y="1268280"/>
            <a:ext cx="3742920" cy="2927160"/>
            <a:chOff x="5734080" y="1268280"/>
            <a:chExt cx="3742920" cy="2927160"/>
          </a:xfrm>
        </p:grpSpPr>
        <p:grpSp>
          <p:nvGrpSpPr>
            <p:cNvPr id="648" name=""/>
            <p:cNvGrpSpPr/>
            <p:nvPr/>
          </p:nvGrpSpPr>
          <p:grpSpPr>
            <a:xfrm>
              <a:off x="5734080" y="1268280"/>
              <a:ext cx="2676600" cy="2927160"/>
              <a:chOff x="5734080" y="1268280"/>
              <a:chExt cx="2676600" cy="2927160"/>
            </a:xfrm>
          </p:grpSpPr>
          <p:sp>
            <p:nvSpPr>
              <p:cNvPr id="649" name=""/>
              <p:cNvSpPr/>
              <p:nvPr/>
            </p:nvSpPr>
            <p:spPr>
              <a:xfrm>
                <a:off x="5998680" y="1268280"/>
                <a:ext cx="801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Sea-wolf 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missile 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(10x smaller, lighter &amp; cheaper than previous technolog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34080" y="1413000"/>
                <a:ext cx="32148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99920" y="3645000"/>
                <a:ext cx="1951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BAE SYSTEMS lead in inertial navigation (</a:t>
                </a:r>
                <a:r>
                  <a:rPr b="1" lang="en-US" sz="1400" spc="-1" strike="noStrike">
                    <a:solidFill>
                      <a:srgbClr val="808080"/>
                    </a:solidFill>
                    <a:latin typeface="Arial Narrow"/>
                  </a:rPr>
                  <a:t>bargaining chip</a:t>
                </a: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 in partnerships &amp; merger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56160" y="2637000"/>
                <a:ext cx="0" cy="936360"/>
              </a:xfrm>
              <a:prstGeom prst="line">
                <a:avLst/>
              </a:prstGeom>
              <a:ln w="6480">
                <a:solidFill>
                  <a:srgbClr val="808080"/>
                </a:solidFill>
                <a:prstDash val="dash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65480" y="3089160"/>
                <a:ext cx="164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808080"/>
                    </a:solidFill>
                    <a:latin typeface="Arial Narrow"/>
                  </a:rPr>
                  <a:t>Opportunities to licence technolog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11920" y="1365120"/>
                <a:ext cx="11052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808080"/>
                    </a:solidFill>
                    <a:latin typeface="Arial Narrow"/>
                  </a:rPr>
                  <a:t>Segway Human Transporter</a:t>
                </a:r>
                <a:r>
                  <a:rPr b="0" lang="en-GB" sz="800" spc="-1" strike="noStrike">
                    <a:solidFill>
                      <a:srgbClr val="808080"/>
                    </a:solidFill>
                    <a:latin typeface="Arial Narrow"/>
                  </a:rPr>
                  <a:t> (BAE has European Military right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703560" y="1479600"/>
                <a:ext cx="144360" cy="0"/>
              </a:xfrm>
              <a:prstGeom prst="line">
                <a:avLst/>
              </a:prstGeom>
              <a:ln w="648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955280" y="3933720"/>
              <a:ext cx="195840" cy="0"/>
            </a:xfrm>
            <a:prstGeom prst="line">
              <a:avLst/>
            </a:prstGeom>
            <a:ln w="6480">
              <a:solidFill>
                <a:srgbClr val="80808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7920" y="3736800"/>
              <a:ext cx="127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Move up ‘food chain’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Narrow"/>
                </a:rPr>
                <a:t>(heads to sub-syste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587920" y="5848200"/>
            <a:ext cx="957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07000" y="573732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&amp;T continues, to develop higher spec &amp; cheaper silicon gyro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7400" y="3141720"/>
            <a:ext cx="1293840" cy="2706480"/>
          </a:xfrm>
          <a:custGeom>
            <a:avLst/>
            <a:gdLst/>
            <a:ahLst/>
            <a:rect l="l" t="t" r="r" b="b"/>
            <a:pathLst>
              <a:path w="204" h="864">
                <a:moveTo>
                  <a:pt x="0" y="864"/>
                </a:moveTo>
                <a:lnTo>
                  <a:pt x="204" y="864"/>
                </a:lnTo>
                <a:lnTo>
                  <a:pt x="204" y="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13640" y="1479600"/>
            <a:ext cx="771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04160" y="5673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im for &lt;$x silicon gy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40840" y="1265400"/>
            <a:ext cx="14810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tential appl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g US market for military grade IMU system (smaller, cheaper, more accurate); GPS de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utomotive (supplement GP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tabilised binocu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curity (signatu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dical (walking disabilities - measure &amp; correct gait); stair-climbing wheelch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94320" y="5731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Expert Judgement and “Gut Fee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5760" y="2257560"/>
            <a:ext cx="7740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ut Feel” is used by many for the early stage valu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(e.g. Pavia 1991, Bannister &amp; Remenyi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ue to lack of understanding of complex issues in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owever this expert judgement can be formal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ecessary to recognize the importance of experience in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plex situation of early-stage technology valuation as th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oes not necessarily dictates a lack of rig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5821200" y="1573200"/>
            <a:ext cx="1202040" cy="460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86560" y="2070000"/>
            <a:ext cx="1341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55720" y="268920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453360" y="2038320"/>
            <a:ext cx="28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54800" y="3019320"/>
            <a:ext cx="46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43480" y="5338800"/>
            <a:ext cx="1704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firm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27880" y="3014640"/>
            <a:ext cx="2185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storical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04000" y="1609560"/>
            <a:ext cx="115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62440" y="5418000"/>
            <a:ext cx="1819440" cy="541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96160" y="5413320"/>
            <a:ext cx="11966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8840" y="3446640"/>
            <a:ext cx="2098440" cy="5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uzzy ART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522600" y="2982600"/>
            <a:ext cx="468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2480" y="5025960"/>
            <a:ext cx="203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apted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34000" y="24112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3520" y="445464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84440" y="242100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53080" y="343368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449760" y="4044960"/>
            <a:ext cx="46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453360" y="5025960"/>
            <a:ext cx="288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72160" y="4417920"/>
            <a:ext cx="1857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508200" y="4039920"/>
            <a:ext cx="504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/>
          <p:nvPr/>
        </p:nvCxnSpPr>
        <p:spPr>
          <a:xfrm rot="10800000">
            <a:off x="3239280" y="5054040"/>
            <a:ext cx="1980360" cy="624600"/>
          </a:xfrm>
          <a:prstGeom prst="bentConnector3">
            <a:avLst>
              <a:gd name="adj1" fmla="val 1002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91840" y="318960"/>
            <a:ext cx="8915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A Hybrid CBR and NN Cycle</a:t>
            </a:r>
            <a:br>
              <a:rPr sz="4000"/>
            </a:b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[Case based reasoning &amp; neural net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1920" y="1884240"/>
            <a:ext cx="210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ke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46480" y="2322360"/>
            <a:ext cx="44748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6000" y="2281320"/>
            <a:ext cx="1825560" cy="950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5240" y="2300400"/>
            <a:ext cx="45072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70640" y="2347920"/>
            <a:ext cx="44784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10120" y="2154240"/>
            <a:ext cx="13273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16400" y="4262400"/>
            <a:ext cx="163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91160" y="1844640"/>
            <a:ext cx="23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06640" y="1384200"/>
            <a:ext cx="1260360" cy="4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14760" y="1062000"/>
            <a:ext cx="20192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35680" y="1082520"/>
            <a:ext cx="2279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6960" y="1866960"/>
            <a:ext cx="149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09800" y="2212920"/>
            <a:ext cx="1679760" cy="93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84320" y="2205000"/>
            <a:ext cx="1224000" cy="735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MT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54440" y="112248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25480" y="336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IRAT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4378320" y="3879720"/>
            <a:ext cx="1490760" cy="14083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110200" y="1913040"/>
            <a:ext cx="1198440" cy="1125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533760" y="4703760"/>
            <a:ext cx="469800" cy="476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939000" y="3403440"/>
            <a:ext cx="2490480" cy="2055960"/>
            <a:chOff x="6939000" y="3403440"/>
            <a:chExt cx="2490480" cy="2055960"/>
          </a:xfrm>
        </p:grpSpPr>
        <p:sp>
          <p:nvSpPr>
            <p:cNvPr id="709" name=""/>
            <p:cNvSpPr/>
            <p:nvPr/>
          </p:nvSpPr>
          <p:spPr>
            <a:xfrm>
              <a:off x="7033680" y="4510080"/>
              <a:ext cx="1790280" cy="949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G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Re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9000" y="3403440"/>
              <a:ext cx="24904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ject Committ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4520" y="4146480"/>
              <a:ext cx="24145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ke deci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6240600" y="4703760"/>
            <a:ext cx="469800" cy="4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48160" y="5367240"/>
            <a:ext cx="3402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lligent Decision Suppo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406520" y="3525840"/>
            <a:ext cx="1793520" cy="2343240"/>
            <a:chOff x="1406520" y="3525840"/>
            <a:chExt cx="1793520" cy="2343240"/>
          </a:xfrm>
        </p:grpSpPr>
        <p:sp>
          <p:nvSpPr>
            <p:cNvPr id="715" name=""/>
            <p:cNvSpPr/>
            <p:nvPr/>
          </p:nvSpPr>
          <p:spPr>
            <a:xfrm>
              <a:off x="1480320" y="3525840"/>
              <a:ext cx="1260360" cy="387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6520" y="4035600"/>
              <a:ext cx="1793520" cy="183348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aptures 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Associated X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2930400" y="3505320"/>
            <a:ext cx="39355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12920" y="2933640"/>
            <a:ext cx="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880920" y="3573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66880" y="3573360"/>
            <a:ext cx="0" cy="14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66880" y="4991040"/>
            <a:ext cx="52236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63720" y="919080"/>
            <a:ext cx="8240760" cy="24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057400" y="45720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 Narrow"/>
              </a:rPr>
              <a:t>Portfolio metho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" y="19051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 method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widely in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 support project / o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ion, to manag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balance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different measures are used, and typically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stomise the matrix and process to suit their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5106600" y="1371600"/>
            <a:ext cx="3960720" cy="2514600"/>
            <a:chOff x="5106600" y="1371600"/>
            <a:chExt cx="3960720" cy="2514600"/>
          </a:xfrm>
        </p:grpSpPr>
        <p:sp>
          <p:nvSpPr>
            <p:cNvPr id="726" name=""/>
            <p:cNvSpPr/>
            <p:nvPr/>
          </p:nvSpPr>
          <p:spPr>
            <a:xfrm>
              <a:off x="58672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67480" y="190476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7480" y="2895480"/>
              <a:ext cx="159984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714640" y="2133360"/>
              <a:ext cx="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05360" y="1752480"/>
              <a:ext cx="152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06600" y="274320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10640" y="137160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w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48160" y="22860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53080" y="2971800"/>
              <a:ext cx="6091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81880" y="2057400"/>
              <a:ext cx="2282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848360" y="30477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4840" y="2286000"/>
              <a:ext cx="685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7640" y="259056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81880" y="2819160"/>
              <a:ext cx="38052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30600" y="668160"/>
            <a:ext cx="30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Workshop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2080" y="1622520"/>
            <a:ext cx="846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00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.15 Valuing technology – an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00 Discussion: examples/issues from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15 Small group exercise (including coffee/t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00 Feedback from groups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.30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72960" y="1217520"/>
            <a:ext cx="5110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ttractivenes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ercial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rategic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Risks a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foli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al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ong pipeline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time, maturity, business life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ver business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usiness area, product m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ross capabilities/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98200" y="1176480"/>
            <a:ext cx="234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jected financial bene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arket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peed of p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tec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98920" y="2433600"/>
            <a:ext cx="332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partnership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apabilit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ompetitive advantage /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credibility with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7840" y="3679920"/>
            <a:ext cx="305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mmerci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technical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constraints (legal, environment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political, partnership necessary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00000" y="500220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Cost (overall / to next 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leveraged c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89480" y="120024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86240" y="2475000"/>
            <a:ext cx="179280" cy="1090440"/>
          </a:xfrm>
          <a:custGeom>
            <a:avLst/>
            <a:gdLst>
              <a:gd name="textAreaLeft" fmla="*/ 114480 w 179280"/>
              <a:gd name="textAreaRight" fmla="*/ 179640 w 17928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83000" y="3738600"/>
            <a:ext cx="179640" cy="1090440"/>
          </a:xfrm>
          <a:custGeom>
            <a:avLst/>
            <a:gdLst>
              <a:gd name="textAreaLeft" fmla="*/ 114840 w 179640"/>
              <a:gd name="textAreaRight" fmla="*/ 180000 w 17964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79760" y="5002200"/>
            <a:ext cx="179640" cy="592200"/>
          </a:xfrm>
          <a:custGeom>
            <a:avLst/>
            <a:gdLst>
              <a:gd name="textAreaLeft" fmla="*/ 114840 w 179640"/>
              <a:gd name="textAreaRight" fmla="*/ 180000 w 17964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016080" y="1760400"/>
            <a:ext cx="137664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24040" y="2259000"/>
            <a:ext cx="1758960" cy="750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79800" y="2651040"/>
            <a:ext cx="1312920" cy="1617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95560" y="2989440"/>
            <a:ext cx="3228840" cy="2317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3760" y="311040"/>
            <a:ext cx="84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 Narrow"/>
              </a:rPr>
              <a:t>Example portfolio approach &amp; dimensions (conce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676560" y="1066680"/>
            <a:ext cx="3070440" cy="2701800"/>
            <a:chOff x="6676560" y="1066680"/>
            <a:chExt cx="3070440" cy="2701800"/>
          </a:xfrm>
        </p:grpSpPr>
        <p:sp>
          <p:nvSpPr>
            <p:cNvPr id="756" name=""/>
            <p:cNvSpPr/>
            <p:nvPr/>
          </p:nvSpPr>
          <p:spPr>
            <a:xfrm rot="16200000">
              <a:off x="6868080" y="1743840"/>
              <a:ext cx="121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mercial attract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06840" y="2746440"/>
              <a:ext cx="15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rategic 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791120" y="2323800"/>
              <a:ext cx="1878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91120" y="1166760"/>
              <a:ext cx="0" cy="151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62400" y="1347840"/>
              <a:ext cx="217080" cy="21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116560" y="2252520"/>
              <a:ext cx="144000" cy="144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58920" y="2149560"/>
              <a:ext cx="290160" cy="28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199800" y="2470320"/>
              <a:ext cx="180720" cy="179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791120" y="1294920"/>
              <a:ext cx="429840" cy="13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791120" y="2685960"/>
              <a:ext cx="195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6560" y="1600200"/>
              <a:ext cx="2238480" cy="21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54360" y="1676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363520" y="1809720"/>
              <a:ext cx="171360" cy="666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629000">
              <a:off x="8169120" y="1750320"/>
              <a:ext cx="187200" cy="1252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534000">
              <a:off x="8313840" y="1694160"/>
              <a:ext cx="152640" cy="12348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629000">
              <a:off x="8187120" y="179496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7542200">
              <a:off x="8206200" y="1709640"/>
              <a:ext cx="142920" cy="209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1118000">
              <a:off x="8228160" y="1849320"/>
              <a:ext cx="172440" cy="2001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851400">
              <a:off x="8303040" y="1868040"/>
              <a:ext cx="140760" cy="15876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89680" y="1879560"/>
              <a:ext cx="10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 Narrow"/>
                </a:rPr>
                <a:t>Budget cut-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382960" y="14778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Narrow"/>
                </a:rPr>
                <a:t>Risk pro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2680" y="10666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</a:rPr>
                <a:t>Size = 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840880" y="114300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lour = B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077200" y="6477120"/>
            <a:ext cx="44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eloped in collaboration with BA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56960" y="1825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Comparing the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-212760" y="743040"/>
            <a:ext cx="9828720" cy="5400720"/>
            <a:chOff x="-212760" y="743040"/>
            <a:chExt cx="9828720" cy="5400720"/>
          </a:xfrm>
        </p:grpSpPr>
        <p:grpSp>
          <p:nvGrpSpPr>
            <p:cNvPr id="782" name=""/>
            <p:cNvGrpSpPr/>
            <p:nvPr/>
          </p:nvGrpSpPr>
          <p:grpSpPr>
            <a:xfrm>
              <a:off x="-212760" y="743040"/>
              <a:ext cx="9828720" cy="4333320"/>
              <a:chOff x="-212760" y="743040"/>
              <a:chExt cx="9828720" cy="4333320"/>
            </a:xfrm>
          </p:grpSpPr>
          <p:sp>
            <p:nvSpPr>
              <p:cNvPr id="783" name=""/>
              <p:cNvSpPr/>
              <p:nvPr/>
            </p:nvSpPr>
            <p:spPr>
              <a:xfrm>
                <a:off x="731880" y="1446480"/>
                <a:ext cx="77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CF etc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82600" y="2268720"/>
                <a:ext cx="120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Real options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cision tre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4440" y="4482720"/>
                <a:ext cx="115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 Narrow"/>
                  </a:rPr>
                  <a:t>Road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-212760" y="324396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ortfoli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metho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1539720" y="1028880"/>
                <a:ext cx="8076240" cy="4047480"/>
                <a:chOff x="1539720" y="1028880"/>
                <a:chExt cx="8076240" cy="404748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539720" y="305244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projects /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ultiple dimens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incorporate other financial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539720" y="406440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ig picture / contex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&amp; 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tegration (builds on &amp; link to oth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approache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539720" y="2040840"/>
                  <a:ext cx="399096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Models flexibility &amp; uncertaint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Builds on experience in financial markets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Graphical representation (DT)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upports communication (D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39720" y="1028880"/>
                  <a:ext cx="399096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Financ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Widely used and accep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530680" y="305244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Project synerg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30680" y="406440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an be complex &amp; time-consuming t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evel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ypically needs customisation - man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different approach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30680" y="2040840"/>
                  <a:ext cx="4085280" cy="1011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Fairly complex mathematics / black box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Data may be scarce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Analogy with financial (tradeable) op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 Narrow"/>
                    </a:rPr>
                    <a:t>not perfect (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30680" y="1028880"/>
                  <a:ext cx="4085280" cy="1011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gnores non-financial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Simplistic - can mask complexity &amp; risk /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uncertain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Narrow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nflexible (single option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286080" y="743040"/>
                <a:ext cx="10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Advant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097400" y="74304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imi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539720" y="5073840"/>
              <a:ext cx="398592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20600" y="5070600"/>
              <a:ext cx="4086000" cy="1069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7200" y="531036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Arti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11080" y="5127840"/>
              <a:ext cx="3056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raws on historical data on pro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motes wi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y help define risk for other method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1680" y="5162760"/>
              <a:ext cx="3357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ed access to data &amp; takes time to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etter for mature 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gnores projects that don’t go a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levance of cases may decrease with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999720" y="57312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1517400" y="1600200"/>
            <a:ext cx="789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ansparency and usability is key for technology valu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mmunication issue “technologist &lt;–&gt; commerc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tual understanding of valu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mportance of technology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tential for VRM and portfolio managemen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al options potential not yet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n be integrated with VRM and portfolio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xpertise and gut feel often used but poorly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41080" y="1372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Towards a framework for 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000080" y="57312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3440" y="2197080"/>
            <a:ext cx="8805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theories exist, yet few frameworks or overvi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s and tools are often “mathematically sophisticated but contextually n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ї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 (Heidenberger and Summer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coherence between theory and practice: what’s being used is not what’s in the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10640" y="36504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Guiding questions and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5360" y="717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50920" y="833400"/>
            <a:ext cx="8754120" cy="5677200"/>
            <a:chOff x="250920" y="833400"/>
            <a:chExt cx="8754120" cy="5677200"/>
          </a:xfrm>
        </p:grpSpPr>
        <p:sp>
          <p:nvSpPr>
            <p:cNvPr id="811" name=""/>
            <p:cNvSpPr/>
            <p:nvPr/>
          </p:nvSpPr>
          <p:spPr>
            <a:xfrm>
              <a:off x="7596360" y="2057400"/>
              <a:ext cx="1368360" cy="280836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0920" y="2457360"/>
              <a:ext cx="2376360" cy="240840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0 h 2408400"/>
                <a:gd name="textAreaBottom" fmla="*/ 2408760 h 240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90" y="0"/>
                  </a:lnTo>
                  <a:lnTo>
                    <a:pt x="21600" y="10800"/>
                  </a:lnTo>
                  <a:lnTo>
                    <a:pt x="16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95640" y="2471760"/>
              <a:ext cx="5327640" cy="2394000"/>
            </a:xfrm>
            <a:custGeom>
              <a:avLst/>
              <a:gdLst>
                <a:gd name="textAreaLeft" fmla="*/ 0 w 5327640"/>
                <a:gd name="textAreaRight" fmla="*/ 5328000 w 532764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50" y="0"/>
                  </a:lnTo>
                  <a:lnTo>
                    <a:pt x="21600" y="10800"/>
                  </a:lnTo>
                  <a:lnTo>
                    <a:pt x="19450" y="21600"/>
                  </a:lnTo>
                  <a:lnTo>
                    <a:pt x="0" y="21600"/>
                  </a:lnTo>
                  <a:lnTo>
                    <a:pt x="2150" y="108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60720" y="1084320"/>
              <a:ext cx="3887640" cy="1373040"/>
            </a:xfrm>
            <a:prstGeom prst="downArrowCallout">
              <a:avLst>
                <a:gd name="adj1" fmla="val 64630"/>
                <a:gd name="adj2" fmla="val 40636"/>
                <a:gd name="adj3" fmla="val 33333"/>
                <a:gd name="adj4" fmla="val 6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0800000">
              <a:off x="3060360" y="4893840"/>
              <a:ext cx="3887640" cy="1473480"/>
            </a:xfrm>
            <a:prstGeom prst="downArrowCallout">
              <a:avLst>
                <a:gd name="adj1" fmla="val 66064"/>
                <a:gd name="adj2" fmla="val 33029"/>
                <a:gd name="adj3" fmla="val 28051"/>
                <a:gd name="adj4" fmla="val 71949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11400" y="1041480"/>
              <a:ext cx="22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What are the potentia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06600" y="5288040"/>
              <a:ext cx="342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can the firm accommodate the new technologi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3760" y="2430360"/>
              <a:ext cx="44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How to shape and justify decisions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about technology investmen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20480" y="833400"/>
              <a:ext cx="138456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Ai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ore reliabl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and accurate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dec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96360" y="3786120"/>
              <a:ext cx="122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New Tools &amp; Hybrid 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96360" y="2489400"/>
              <a:ext cx="1366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Compendium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6699"/>
                  </a:solidFill>
                  <a:latin typeface="Arial"/>
                </a:rPr>
                <a:t>Good 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739280" y="21304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liver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6960" y="3160800"/>
              <a:ext cx="1789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ividual experi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rr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« Gut Feel 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32000" y="2994120"/>
              <a:ext cx="3600720" cy="151272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0800000">
              <a:off x="3151080" y="2932920"/>
              <a:ext cx="3600720" cy="1513080"/>
            </a:xfrm>
            <a:prstGeom prst="rtTriangl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5480" y="450540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Shap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31800" y="2718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Justify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71440" y="2933640"/>
              <a:ext cx="1198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CF, NP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al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cision Tre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nte Car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74400" y="4086360"/>
              <a:ext cx="171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alue Roadm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se based reaso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31360" y="3138480"/>
              <a:ext cx="1911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 Dynam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a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ortfolio Meth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brid intelligen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imulation 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02960" y="5504040"/>
              <a:ext cx="3265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pabilities aud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cesses &amp;  Resource based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nagement team review (VC- perspectiv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9280" y="120168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canning &amp; Fore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ology Intelli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02360" y="1195560"/>
              <a:ext cx="217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echnology </a:t>
              </a:r>
              <a:br>
                <a:rPr sz="1200"/>
              </a:b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  road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Expert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-36360" y="2876400"/>
            <a:ext cx="24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What has happened 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n the pas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174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24360" y="1739880"/>
            <a:ext cx="167292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)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800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54760" y="1739880"/>
            <a:ext cx="1673280" cy="8413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5" idx="3"/>
            <a:endCxn id="836" idx="1"/>
          </p:cNvCxnSpPr>
          <p:nvPr/>
        </p:nvCxnSpPr>
        <p:spPr>
          <a:xfrm>
            <a:off x="2290680" y="2160360"/>
            <a:ext cx="73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36" idx="3"/>
            <a:endCxn id="837" idx="1"/>
          </p:cNvCxnSpPr>
          <p:nvPr/>
        </p:nvCxnSpPr>
        <p:spPr>
          <a:xfrm>
            <a:off x="4697280" y="2160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7090920" y="2160360"/>
            <a:ext cx="66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"/>
          <p:cNvSpPr/>
          <p:nvPr/>
        </p:nvSpPr>
        <p:spPr>
          <a:xfrm>
            <a:off x="3808440" y="42354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86760" y="4002120"/>
            <a:ext cx="308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sualisation &amp; commun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iability of method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mal or informal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945320" y="31892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04280" y="5056200"/>
            <a:ext cx="31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ls: qualitative or quanti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stifying or shaping ju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or shor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33720" y="42735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640" y="5048280"/>
            <a:ext cx="266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: historical or fut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processing: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89400" y="31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8240" y="396540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data to right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10680" y="422748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07560" y="506412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repreneuria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38" idx="3"/>
            <a:endCxn id="835" idx="1"/>
          </p:cNvCxnSpPr>
          <p:nvPr/>
        </p:nvCxnSpPr>
        <p:spPr>
          <a:xfrm flipH="1">
            <a:off x="617040" y="2160720"/>
            <a:ext cx="8811360" cy="2160"/>
          </a:xfrm>
          <a:prstGeom prst="bentConnector5">
            <a:avLst>
              <a:gd name="adj1" fmla="val -2590"/>
              <a:gd name="adj2" fmla="val 45500000"/>
              <a:gd name="adj3" fmla="val 10259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4479840" y="28116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yclical or ad h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1912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71920" y="214164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95040" y="573120"/>
            <a:ext cx="55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A technology valuation proces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5680" y="325584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…</a:t>
            </a: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.and potenti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41880" y="216360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05360" y="258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01120" y="261000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94680" y="57312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Process of technology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777960" y="1274760"/>
            <a:ext cx="8881560" cy="4789800"/>
            <a:chOff x="777960" y="1274760"/>
            <a:chExt cx="8881560" cy="4789800"/>
          </a:xfrm>
        </p:grpSpPr>
        <p:sp>
          <p:nvSpPr>
            <p:cNvPr id="863" name=""/>
            <p:cNvSpPr/>
            <p:nvPr/>
          </p:nvSpPr>
          <p:spPr>
            <a:xfrm>
              <a:off x="7993800" y="5061240"/>
              <a:ext cx="16657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52080" y="3123720"/>
              <a:ext cx="2138040" cy="167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56120" y="2154600"/>
              <a:ext cx="3648240" cy="343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33440" y="3300120"/>
              <a:ext cx="1270440" cy="123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0560" y="3211920"/>
              <a:ext cx="1268280" cy="1235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52080" y="3211920"/>
              <a:ext cx="1903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rit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11200" y="3564360"/>
              <a:ext cx="9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40120" y="3564360"/>
              <a:ext cx="11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11200" y="2949120"/>
              <a:ext cx="555480" cy="7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7960" y="2066040"/>
              <a:ext cx="15876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74800" y="4269600"/>
              <a:ext cx="71280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4" name=""/>
            <p:cNvCxnSpPr>
              <a:stCxn id="867" idx="2"/>
              <a:endCxn id="866" idx="2"/>
            </p:cNvCxnSpPr>
            <p:nvPr/>
          </p:nvCxnSpPr>
          <p:spPr>
            <a:xfrm rot="5400000">
              <a:off x="4937400" y="1478160"/>
              <a:ext cx="88560" cy="6027480"/>
            </a:xfrm>
            <a:prstGeom prst="curvedConnector5">
              <a:avLst>
                <a:gd name="adj1" fmla="val 1833061"/>
                <a:gd name="adj2" fmla="val 50000"/>
                <a:gd name="adj3" fmla="val 18330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5" name=""/>
            <p:cNvSpPr/>
            <p:nvPr/>
          </p:nvSpPr>
          <p:spPr>
            <a:xfrm>
              <a:off x="2602080" y="3564360"/>
              <a:ext cx="55404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04720" y="3564360"/>
              <a:ext cx="555480" cy="614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52080" y="2508480"/>
              <a:ext cx="198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 - Internal &amp; 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arket, time, culture…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28040" y="5678280"/>
              <a:ext cx="198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66400" y="1715400"/>
              <a:ext cx="198468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Stage g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Decision nodes (optio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43320" y="1274760"/>
              <a:ext cx="17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ze/St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14880" y="1715400"/>
              <a:ext cx="712800" cy="149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 rot="16200000">
            <a:off x="4060800" y="2328480"/>
            <a:ext cx="1584360" cy="568980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1251000 h 5689800"/>
              <a:gd name="textAreaBottom" fmla="*/ 4438800 h 56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04800" y="51735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45520" y="4957920"/>
            <a:ext cx="93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im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13160" y="55324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l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61160" y="560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Qua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45160" y="52452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81160" y="52452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0808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6880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329520" y="41655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08080" y="38768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cept e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68800" y="416556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42372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793880" y="2076480"/>
            <a:ext cx="1582560" cy="837000"/>
            <a:chOff x="1793880" y="2076480"/>
            <a:chExt cx="1582560" cy="837000"/>
          </a:xfrm>
        </p:grpSpPr>
        <p:sp>
          <p:nvSpPr>
            <p:cNvPr id="896" name=""/>
            <p:cNvSpPr/>
            <p:nvPr/>
          </p:nvSpPr>
          <p:spPr>
            <a:xfrm>
              <a:off x="23493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812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938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733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111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259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2" name=""/>
            <p:cNvCxnSpPr>
              <a:stCxn id="899" idx="2"/>
              <a:endCxn id="898" idx="2"/>
            </p:cNvCxnSpPr>
            <p:nvPr/>
          </p:nvCxnSpPr>
          <p:spPr>
            <a:xfrm rot="5400000">
              <a:off x="25585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3" name=""/>
            <p:cNvSpPr/>
            <p:nvPr/>
          </p:nvSpPr>
          <p:spPr>
            <a:xfrm>
              <a:off x="20638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559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368440" y="3013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16800" y="29415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84800" y="30132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91080" y="573120"/>
            <a:ext cx="71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Technology Valuation as a cyclical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651120" y="2076480"/>
            <a:ext cx="1582560" cy="837000"/>
            <a:chOff x="3651120" y="2076480"/>
            <a:chExt cx="1582560" cy="837000"/>
          </a:xfrm>
        </p:grpSpPr>
        <p:sp>
          <p:nvSpPr>
            <p:cNvPr id="910" name=""/>
            <p:cNvSpPr/>
            <p:nvPr/>
          </p:nvSpPr>
          <p:spPr>
            <a:xfrm>
              <a:off x="420660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3848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5112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3056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6840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8320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6" name=""/>
            <p:cNvCxnSpPr>
              <a:stCxn id="913" idx="2"/>
              <a:endCxn id="912" idx="2"/>
            </p:cNvCxnSpPr>
            <p:nvPr/>
          </p:nvCxnSpPr>
          <p:spPr>
            <a:xfrm rot="5400000">
              <a:off x="441576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7" name=""/>
            <p:cNvSpPr/>
            <p:nvPr/>
          </p:nvSpPr>
          <p:spPr>
            <a:xfrm>
              <a:off x="392112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1320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827680" y="2076480"/>
            <a:ext cx="1582560" cy="837000"/>
            <a:chOff x="5827680" y="2076480"/>
            <a:chExt cx="1582560" cy="837000"/>
          </a:xfrm>
        </p:grpSpPr>
        <p:sp>
          <p:nvSpPr>
            <p:cNvPr id="920" name=""/>
            <p:cNvSpPr/>
            <p:nvPr/>
          </p:nvSpPr>
          <p:spPr>
            <a:xfrm>
              <a:off x="6383160" y="2279520"/>
              <a:ext cx="454320" cy="351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15040" y="2076480"/>
              <a:ext cx="774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7680" y="2316240"/>
              <a:ext cx="270000" cy="260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07120" y="2298600"/>
              <a:ext cx="270000" cy="258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44960" y="2243160"/>
              <a:ext cx="117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59760" y="2519280"/>
              <a:ext cx="1504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6" name=""/>
            <p:cNvCxnSpPr>
              <a:stCxn id="923" idx="2"/>
              <a:endCxn id="922" idx="2"/>
            </p:cNvCxnSpPr>
            <p:nvPr/>
          </p:nvCxnSpPr>
          <p:spPr>
            <a:xfrm rot="5400000">
              <a:off x="6592320" y="1927080"/>
              <a:ext cx="19800" cy="1280160"/>
            </a:xfrm>
            <a:prstGeom prst="curvedConnector5">
              <a:avLst>
                <a:gd name="adj1" fmla="val 1833333"/>
                <a:gd name="adj2" fmla="val 49985"/>
                <a:gd name="adj3" fmla="val 183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>
              <a:off x="609768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89760" y="2371680"/>
              <a:ext cx="117360" cy="1303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991080" y="57312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s the various stages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58560" y="6073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: 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9000" y="115092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88880" y="1636560"/>
            <a:ext cx="6783480" cy="440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9440" y="779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 Narrow"/>
              </a:rPr>
              <a:t>Valuing technology – an ov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0840" y="2085840"/>
            <a:ext cx="61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inanc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oadmapping 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xpert judgement &amp; gut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Portfolio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wards a framework for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993960" y="573120"/>
            <a:ext cx="565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Valuation and technology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 Narrow"/>
              </a:rPr>
              <a:t>- tools and the valuation tim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825480" y="1681200"/>
            <a:ext cx="8217000" cy="4592520"/>
            <a:chOff x="825480" y="1681200"/>
            <a:chExt cx="8217000" cy="4592520"/>
          </a:xfrm>
        </p:grpSpPr>
        <p:sp>
          <p:nvSpPr>
            <p:cNvPr id="935" name=""/>
            <p:cNvSpPr/>
            <p:nvPr/>
          </p:nvSpPr>
          <p:spPr>
            <a:xfrm>
              <a:off x="1155600" y="2671920"/>
              <a:ext cx="4292640" cy="609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Val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roadma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3662280"/>
              <a:ext cx="37148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ustomised portfol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207040" y="2949480"/>
              <a:ext cx="247644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T support tools such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ase-based reas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48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arly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86640" y="168120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techn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424400"/>
              <a:ext cx="3797280" cy="838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CF/NP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81080" y="5338800"/>
              <a:ext cx="511812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ptions thin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90720" y="2443320"/>
              <a:ext cx="7924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32040" y="1986120"/>
              <a:ext cx="25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creasing technology mat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14280" y="5908680"/>
              <a:ext cx="7828200" cy="3650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Gut fe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990720" y="57312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An overview of needs, methods used, and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089000" y="2379600"/>
            <a:ext cx="827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27440" y="190800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058760" y="2511360"/>
            <a:ext cx="257040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means to visualise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uss what next genera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be, take into accou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 technical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et and organis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“gut feel” approach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lue road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iven the inhere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ertainty, balance betwee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 and imagination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y e.g. communication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9400" y="2523960"/>
            <a:ext cx="2570040" cy="351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quantify and mitigat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contrac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 full potenti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Structured financ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, but technical risk d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rusted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euse of accumula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0520" y="2509920"/>
            <a:ext cx="2570040" cy="351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ow to sele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ies coming out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for furt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, and how to “sell”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s to business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ybrid portfoli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communicatio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perspective appr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633120" y="533520"/>
            <a:ext cx="26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8080" y="1600200"/>
            <a:ext cx="85759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experiences do you have of val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tools have you found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ve you had problems with transparency and commun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are the key issues in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support do you think needs to be develo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518920" y="533520"/>
            <a:ext cx="48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38080" y="1600200"/>
            <a:ext cx="85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chnology readiness levels (TRLs) were introduced by NASA and are now used widely in the defenc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y seek to remove ambiguity from discussions about technology development to facilitate effective technology management and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s it possible to define Market Readiness Levels in the same way that NASA defined TRLs? Does this support a more systematic approach to valuing techn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Valuation empha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95360" y="1600200"/>
          <a:ext cx="8915400" cy="438156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rly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d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te stage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ze of pr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bility to position 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fitability – only start subtracting costs 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sion of “gold medal” (long te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ining in g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e and tac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project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siz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2595600" y="53352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1600200"/>
            <a:ext cx="857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’s Technology Readiness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Mankins (1995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Readiness Levels: A White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rinciples observed and re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concept and/or application for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and experimental critical function and/or characteristic proof of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laborator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and/or breadboard validation in relevan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/subsystem model or prototype demonstration in a relevant environment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prototype demonstration in a spac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completed and 'flight qualified' through test and demonstration (ground or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system 'flight proven' through successful missio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541600" y="533520"/>
            <a:ext cx="48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8080" y="1600200"/>
            <a:ext cx="8575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lit into pairs for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iew material on Technology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e a first draft definition of Market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k about how they could be useful i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a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oring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or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862360" y="5335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Exercis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1600200"/>
            <a:ext cx="85759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pair to report ba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posed Market Readiness Lev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ments on potential use in supporting technology 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089160" y="5335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Arial Narrow"/>
              </a:rPr>
              <a:t>Workshop c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38080" y="1600200"/>
            <a:ext cx="85759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mments on worksh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s it met your objectiv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ny comments on content or form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me take-aways 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apers, description of s/w tool for decision trees, TR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4640" y="148428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57680" y="1477800"/>
            <a:ext cx="266724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8600" y="3008160"/>
            <a:ext cx="2666880" cy="1524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7560" y="4641840"/>
            <a:ext cx="266688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28680" y="4618080"/>
            <a:ext cx="2667240" cy="1523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9520" y="671400"/>
            <a:ext cx="72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Desirable features of a valuation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1600" y="1998720"/>
            <a:ext cx="620640" cy="512640"/>
          </a:xfrm>
          <a:prstGeom prst="leftRightArrow">
            <a:avLst>
              <a:gd name="adj1" fmla="val 50000"/>
              <a:gd name="adj2" fmla="val 241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9560" y="1984320"/>
            <a:ext cx="63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nted cash flow, NPV, payback, etc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options &amp; decision tre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3733920"/>
            <a:ext cx="3897360" cy="2361960"/>
            <a:chOff x="4495680" y="3733920"/>
            <a:chExt cx="3897360" cy="2361960"/>
          </a:xfrm>
        </p:grpSpPr>
        <p:sp>
          <p:nvSpPr>
            <p:cNvPr id="101" name=""/>
            <p:cNvSpPr/>
            <p:nvPr/>
          </p:nvSpPr>
          <p:spPr>
            <a:xfrm>
              <a:off x="7467480" y="37339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44197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176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943600" y="3978000"/>
              <a:ext cx="366840" cy="46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4240" y="38862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3600" y="4702320"/>
              <a:ext cx="338040" cy="43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477120" y="4825800"/>
              <a:ext cx="35532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83560" y="3886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7760" y="472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5943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37339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4572000"/>
              <a:ext cx="304920" cy="30492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1055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5791320"/>
              <a:ext cx="304920" cy="3045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6480" y="5378400"/>
              <a:ext cx="33804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0200" y="396252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An option is a right (but not an obligation) to do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3480" y="67140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Arial"/>
              </a:rPr>
              <a:t>Financi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43800" cy="4370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72960" y="42228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nd the time value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72440" y="43434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10%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32120" y="129384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7800" y="12938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1 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37920" y="121932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2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5160" y="3757680"/>
            <a:ext cx="53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42120" y="37576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8720" y="369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5600" y="33606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$1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40" y="57340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@12% 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6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$15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     +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$10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.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$11.4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95600" y="337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$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82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xample DC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7400" y="2031840"/>
            <a:ext cx="8960040" cy="23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44424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When discounted cash flow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tops being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0320" y="2184480"/>
            <a:ext cx="86932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iscounted cash flow methods are po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stimating project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certain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2:27:48Z</dcterms:created>
  <dc:creator>Rob Phaal</dc:creator>
  <dc:description/>
  <cp:keywords/>
  <dc:language>en-US</dc:language>
  <cp:lastModifiedBy>cjp2</cp:lastModifiedBy>
  <cp:lastPrinted>2001-09-04T10:45:25Z</cp:lastPrinted>
  <dcterms:modified xsi:type="dcterms:W3CDTF">2005-09-26T08:45:59Z</dcterms:modified>
  <cp:revision>360</cp:revision>
  <dc:subject/>
  <dc:title>No Slide Title</dc:title>
</cp:coreProperties>
</file>